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3F50-FD93-4CD7-B1F5-BB1CFB125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982E-903D-4EA3-9454-F722F4629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DB6D-EA08-4BFD-92D2-B92481FE6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2D94-87E1-4897-B05B-A700D99DE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A81E-8E37-4BE5-8878-66B227CBF9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7FD0-ABF9-44A1-B5EA-3B102E7210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CCA0-316F-4CD9-A996-B185E91395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0332-2714-4E94-8F98-F650B910D6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13C5-85AF-4F32-AC4F-8C68C05620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6A4D-5200-46AC-9E23-2376BDCCA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C518-6707-4CE8-A383-564B45790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861E-0636-42DF-A146-685A916A8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A331-A1B1-4BE9-92BC-ADEB02F747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19DB-722A-4CF6-AAD0-94FE2EBE8B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24FA-FC56-4F6C-A686-36B7D058F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32B28-6F72-4E3A-B01A-440E885AC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1826-98C1-4F62-82CB-76E17DCF1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B5F2-4907-402C-B80C-11CF32E71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E981-5BAC-4B19-A8CF-275773712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533E-5C0B-45DC-A285-780935484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8A38-D07A-4FC4-A732-2CD20DC1B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DA49-877A-49B9-BF58-6AB638A2F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F66E-EE84-456A-B010-40464B056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AFDC-DE85-4960-AF3A-D81D4004C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2BB1-4754-446F-BF19-AC8514E91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8DD-A441-4482-BFF6-20D11AFA1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7 – Gene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ki mehanizam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Šabloni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enerisanje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Šabloni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odrazumijevane vrijednos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Šabloni funkcija čla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pecijalizacija šabl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Zaključ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37EE-3C20-4DDD-9878-557BD21E06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 maxfunc(T a, T 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    return a &gt; b? a : b;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//preklopljena funkci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har* maxfunc(char* str1, char* str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 return strcmp(str1,str1)&gt;=0?str1:str1;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 ekspl. zahtijev za generisanj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emplate float maxfunc&lt;float&gt; (float,float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1 = -3, i2 = 5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f1 = 5.5, f2 = 34.4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har* s1 = "bc"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har* s2 = "abc"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i1, i2)=" &lt;&lt; maxfunc(i1, i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 generise se int maxfunc(int,i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f1, f2)=" &lt;&lt; maxfunc(f1, f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//poziva se preklopljena funkcija maxfun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s1, s2)=" &lt;&lt; maxfunc(s1, s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s1, s2)=" &lt;&lt; maxfunc&lt;char*&gt;(s1, s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ekspl. se poziva genericka funkci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24360" y="2637000"/>
            <a:ext cx="3419640" cy="159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6882-E747-45A6-9D51-358241BC52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Šablon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blonom klase definiše se cijela familija klasa koje imaju isti izg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Šablon klase naziva se i generičkom klas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šablona klase odgovara deklaraciji “obične” klase izuzev što ispred stoj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emplate&lt;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naštanje prevodioca za šablone klasa je identično kao i za šablone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Generiše se konkrenta klasa kada se naiđe na deklaraciju sa objekta te generičk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se zamjena parametra šablona stvarnim tip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ti efekat kao da je programer sam ispisao sve konkrent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rši  se i generisanje svih funkcije čla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0E89-F23F-4A67-8D30-D6D8B71E8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Šablon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znaka tipa generičke klase treda da sadrž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dentifikator generičk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Listu stvarnih argumenata za generičke parametre i konsta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vodi se unutar 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varni argument može b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znaka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me klase, ugrađeni tip, pokazivač it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mjenjuje parametar koji je identifikator tip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nsta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li konstantni izr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mjenjuje parametar koji je identifikator kons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2AC2-C7A8-4708-9B2E-C69AC8CCBD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Šablon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764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template &lt;class T, int n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*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&amp; operator[](int i) {return a[i]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Print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(int i = 0; i &lt; num; i++) cout &lt;&lt; a[ i ] &lt;&lt; "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template &lt;class T, int n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Array&lt;T, num&gt;::Arra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a = new T[num]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&lt;int,2&gt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rr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&lt;Complex,2&gt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r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1[0] = 1;arr1[1] =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2[0] = Complex(10.1, 11.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1.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2.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5595840"/>
            <a:ext cx="4427640" cy="12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B36B-B38B-4847-AC0E-435B544904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drazumijene vrijednosti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rametri šablona mogu da imaju podrazumijena vrij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oliko posljednjih argumenta može da ima podrazumijenu vrijedn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lično kao i kod fun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voljno je navesti samo u deklaraciji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 potrebno ponavljati u metod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parameter t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drazumijevana vrijednost može da bude primitivni tip, “obična” klasa, generička klasa sa navedenim stvarnim tipov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parametar konsta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drazumijevana vrijednost je konstantni izra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AC57-96AE-47ED-B737-68CAA966C3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drazumijene vrijednos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){a = new T[num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um; i++) cout &lt;&lt; a[ i ] &lt;&lt; 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lt;&gt; arr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lt;Complex&gt; arr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1[0] = 1;arr1[1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2[0] = Complex(10.1, 11.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2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4005360"/>
            <a:ext cx="442764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C46E-2EBF-456F-B7B2-C81F4AD507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Šabloni funkcija članic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e funkcije članice šablonske klase su podrazumijevano šablons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e članice mogu da budu šablonske, tj. generi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ez obzira da li je klasa šablons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čka funkcija članica mogu da se definišu unutar klase izi iz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gu biti virtue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struktor ne može da bude generič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struktor može da bude generič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ozivu stvari argumenti šablona navode se poslije imena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B5EA-7685-464F-A973-35966CBB5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Šabloni funkcija članic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template &lt;class T&gt; void mul(T 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 *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*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iend ostream&amp; operator&lt;&lt;(ostream&amp; os, Complex&amp; 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stream&amp; operator&lt;&lt;(ostream&amp; os, Complex&amp; 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os &lt;&lt; "(Im=" &lt;&lt; c.re &lt;&lt; ",Re=" &lt;&lt; c.im &lt;&lt; ")"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1(1.0,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c1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1.mul&lt;int&gt;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c1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1.mul&lt;float&gt;(2.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c1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46920" y="4842000"/>
            <a:ext cx="309708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0108-DE7A-446E-BA7A-53FBEE49A3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dređenom broju slučajeva postoji potreba da 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neke specif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ne vrednosti parametara šablona definiše specifična definicija šablonske funkcije ili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pr. funkcij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ma drugačije ponašanje za nizove znaka u odnosu na broje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rethodnom primjeru, tu funkciju smo preklopili što je u određenim slučajevima dalo neželjeno ponaš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žan je koncept specijalizacije šabl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efinisanje posebnog šablona za neku kombinaciju paramet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ra da postoji prethodno definisati opšti šabl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339B-FA38-463B-A989-F90CDA547C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izacija može b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jelimič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pecijalizovani šablom ima makar jedan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tpu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pecijalizovani šablom nema ni jed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e je specijalizov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ic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izacija funkcija mora da bude potp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spred deklaracije navodi 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ju se koristiti konkretni tipovi za deklaraciju formalnih argumenat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16EA-447E-4894-A54A-9AEA8665BA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šabl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šablona funkcija funkcija i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podrazumijevanih vrijednosti šablo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jalizacija šabl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F082-4440-48A8-87EC-69B5ACDA1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maxfunc(T a, T 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 return a &gt; b? a : b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template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har* maxfunc(char* str1, char* str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{ return strcmp(str1,str1)&gt;=0?str1:str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kspl. zahtijev za generis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float maxfunc&lt;float&gt; (float,floa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1 = -3, i2 =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f1 = 5.5, f2 = 34.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* s1 = "bc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* s2 = "abc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max(i1, i2)=" &lt;&lt; maxfunc(i1, i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generise se int maxfunc(int,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max(f1, f2)=" &lt;&lt; maxfunc(f1, f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ut &lt;&lt; "max(s1, s2)=" &lt;&lt; maxfunc(s1, s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ut &lt;&lt; "max(s1, s2)=" &lt;&lt; maxfunc&lt;char*&gt;(s1, s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46920" y="1773360"/>
            <a:ext cx="3097080" cy="165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9FEC-0BCE-45EF-BD14-5BD17EC892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pecijalizacija generičke klase može biti potpuna ili djelimič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lar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sl-SI" sz="1800" spc="-1" strike="noStrike">
                <a:solidFill>
                  <a:srgbClr val="000000"/>
                </a:solidFill>
                <a:latin typeface="Courier New"/>
              </a:rPr>
              <a:t>argument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class GSklasa&lt;parametri&gt;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rgum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Svi ili samo neki formalni argumenti opšteg šabl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Ne mogu imati podrazumevane vred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arame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Specijalizovani argumenti opšteg šablo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 deklaraciji objekta generičke klase navodi se onoliko parametara koliko ima opšti šab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evodilac bi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ajviše specijalizovani šablon (sa najmanje argumen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pšti - ako ni jedan specijalizovani ne odgov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8A6D-929A-4E44-9B22-B4421B530C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) : n(n) {a = new T[n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operator==(Array&amp; arr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!= arr1.n) 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[i] != arr1.a[i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CB85-1606-48B8-8A68-3D6AAE2FEB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int&gt; a1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1[0] = 1; a1[1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int&gt; a2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2[0] = 1; a2[1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a1 =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!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char*&gt; s1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1[0] = new char[3]; strcpy(s1[0], "ab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1[1] = new char[3]; strcpy(s1[1], "b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char*&gt; s2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2[0] = new char[3]; strcpy(s2[0], "ab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2[1] = new char[3]; strcpy(s2[1], "b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 == s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s1==s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s1!=s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48360" y="4962600"/>
            <a:ext cx="3095640" cy="189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B79B-C3F9-4A93-A997-342C70ECF4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emplate &l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lass Array&lt;char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*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) : n(n) {a = new char*[n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~Array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bool operator==(Array&amp; arr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!= arr1.n) 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trcmp(a[i], arr1.a[i]) !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77080" y="5238720"/>
            <a:ext cx="226692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180D-B373-44FC-9D0E-491B2E1E04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Zaključak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čke klase se najčešće koriste za realizaciju kontejnerskih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t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Lista it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ez generičkog mehanizma ovaj problem rješavan je putem nasljeđi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etodu se defisane tako da rade sa nekim opštim tipo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z koga se izvode ostal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itanju je zapravo pokazivač na bilo koji objek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eliki nedostatak je mogućnost da se neka operacija jednom pozove za jedan objekat, a drugi put za neki drug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se koristi gen. mehanizam do toga ne može doć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d deklaracije objekta se navodi i stvaran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0940-F627-4CFD-AD02-29D07F6486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značajnom broju slučajeva istu funkciju (algoritam) treba primjenjivati nad različitim tipovima poda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psolutna vrijed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aksimum dva br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Bez odgovarajućeg mehanizma trebalo bi pisati po jednu funkciju za svaki tip podat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int abs(int n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return n &gt; 0? n : -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abs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n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return n &gt; 0? n : -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abs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n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return n &gt; 0? n : -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Jezik C ne podržava preklapanje imena pa se funkcije zovu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fab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lab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it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6600-ACA6-4492-9438-E5693E48A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Šabloni funk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z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 C++ omogućava definisanje šablona (engl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blon opisuje familiju funkcija koje imaju istu realizaciju, ali operišu nad različitim tipovima poda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gu se praviti i za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osnovu šablona se automatski generišu konkrente funkcije za konkretan tip poda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datak prevodioca, a ne programe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e koje su opisane šablonom nazivaju se generič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čki mehanizam je statič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vrijeme prevođenja vrši se tekstualna zamj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D48E-09DA-4F0C-8110-046180FD2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Šablon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finicija šablona počinje ključnom riječj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tom se izmeđ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&lt;&g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navode parametri šabl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arametri šablona su odvojeni zarez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parameter može biti tip ili konsta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je u pitanju tip onda se navodi ključna riječ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a zatim se navede i identifikator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detifikator tipa može se koristiti unutar šablona na svim mjestima gdje se očekuje identifikator tipa podat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je u pitanju konstanta, onda se navede oznaka tipa(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, a zatim identifikator konst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nstanta se može koristiti unutar šablona na svim mjestima na kojima se očekuje konsta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1F20-94E2-4C88-9CBC-ED89647B51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Šablon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template &lt;class 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T abs(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&l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1 = -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f1 = 5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1=" &lt;&lt; abs(i1)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f1=" &lt;&lt; abs(f1)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83440" y="5522760"/>
            <a:ext cx="19605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73B8-5411-4771-B0B9-88A1C2D61B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sanje konkretnih funkcija na osnovu šablona vrši se automatski od strane prevodio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likom analize šablona prevodilac ne generiše k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ip je još uvijek nepozn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sanje koda se vrši kada se dođe do poziva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smatra se stvarni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Generiše konkretnu verziju funkcije tako što parametre šablona zamijeni stvarnim tip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ima više poziva sa istim tipoom (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generiše se samo jednom za taj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FA3C-1533-40A7-B391-D930B52E65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309920" cy="51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8873-F889-456B-8FE2-B9D82675AF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kretne funkcije mogu biti generisane i na eksplicitan zahtje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ksplicitno generisanje vrši se sa navođenjem prototipa sa tipovima stvarnih argumen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sanje funkcije se vrši samo ako odgovarajuća funkcija ne posto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ilo generisana bilo definisa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dgovarajuća funkcija znači da se stvarni argumetni uklapaju u formalne bez konverz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blonske funkcije je moguće preklap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267D-55DC-4729-BB0F-BB871A6C1F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6T09:28:52Z</dcterms:modified>
  <cp:revision>893</cp:revision>
  <dc:subject/>
  <dc:title>Chapter 1 – Introduction to Computers and C++ Programming</dc:title>
</cp:coreProperties>
</file>